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2ED-1D9D-4A65-A176-700B8DF0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23B-BC9E-4F2A-AD9F-332BE044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F1F8-A845-4D4B-8E74-F04FACD5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DF6-0427-4DA5-ADB2-F5138E7E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653-9327-47FD-BA53-BDB9BEA4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D9E-3683-4842-943B-6BDD6663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E2D-D53D-42DA-8DF0-94E9EBD6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9A1-D5C5-4AB6-8191-33687155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0A6-4D3D-4FD1-80E9-5F9A9521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AA9-D224-4721-9157-7914E70B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1F6-18CE-413A-83A7-E29888E4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FAE-23D1-4E63-9293-E68C25BE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508B-9BD0-474F-8FAB-1B2BD07D8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91658" dir="2017659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Eras Bold ITC"/>
              </a:rPr>
              <a:t>FIRE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5146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Eras Bold ITC"/>
              </a:rPr>
              <a:t>How do firefighters use math in fighting f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ras Bold ITC"/>
              </a:rPr>
              <a:t>by Dianne Buzz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95280"/>
            <a:ext cx="8305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eight of each floor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width of building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length of fire escape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3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6 + 900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≈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The length in feet of the fire escape is about 33 feet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2657520" cy="289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81480" y="5867280"/>
            <a:ext cx="350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e discovered these additional math skills that firefighters u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a an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a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p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ga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r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stical 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17844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133720" y="6400800"/>
            <a:ext cx="2286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urc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Certification of Training and Education Programs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ennessee Department of St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Mar 1999. Commission on Fire Fighting. 17 Feb 2008 &lt;http://www.state.tn.us/sos/rules/0360/0360-02-01.pdf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"FIRE!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PrimeTime M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Ed. David A. Dockterman. Watertown, MA: Tom Snyder Productions, 199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ui, T. L. "Firefighting occupations."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XP Mat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7. 10 Feb 2008 &lt;http://www.xpmath.com/careers/jobsresult.php?groupID=3&amp;jobID=9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ictures collected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ClickArt 400,00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2002. Riverdeep Interactive Learning Limited, and its licen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 our fire fighting simulation, we used these math skill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600" y="2057400"/>
            <a:ext cx="6019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mulas (using basic algeb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asurements an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0920" y="447840"/>
            <a:ext cx="1981080" cy="6410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981440" cy="641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673680"/>
            <a:ext cx="3200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2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a=(length)(width)=(40)(30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200; so the horizontal factor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tical factor = 50(2)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tical + horizontal = 100 + 50 = 150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609480" y="2590920"/>
            <a:ext cx="4038840" cy="2463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5334120"/>
            <a:ext cx="510552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150 feet of attack line required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09760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105520"/>
            <a:ext cx="3505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G +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 = size of nozzle tip in i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 = gallons per minute from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00 +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 = 1 inch nozzle t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1 inch nozzle tip needed.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76920" y="1752480"/>
          <a:ext cx="31366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3136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4952880" y="5181480"/>
            <a:ext cx="312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00200"/>
            <a:ext cx="426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length of attack line) = (.1)(150) = 15 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Friction loss in psi for total length of attack line = 15 psi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6640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7280" y="5715000"/>
            <a:ext cx="312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formul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523880"/>
            <a:ext cx="4267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length of supply line) = (.04)(100) = 4 p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***Friction loss in psi for total length of supply line = 4 psi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386160" cy="403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2120" y="6019920"/>
            <a:ext cx="327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ra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utes remaining in tank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otal breaths in tank – Breaths alread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eathing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24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baseline="-26000">
                <a:solidFill>
                  <a:srgbClr val="ffff00"/>
                </a:solidFill>
                <a:latin typeface="Arial"/>
              </a:rPr>
              <a:t>=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.86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Rasheed has about 6.9 minutes left u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urden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breathing conditions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91320" y="457200"/>
            <a:ext cx="208908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62720" y="2895480"/>
            <a:ext cx="3276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eight of floor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(length of bldg.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(length of stairs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+ 4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6 + 1600 = c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≈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**The length in feet of the inside stairs is about 42 feet.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2438280" cy="242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5943600"/>
            <a:ext cx="3276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sing the Pythagorean Theor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295280"/>
            <a:ext cx="8305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refighter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ythagorean Theorem: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eight where ladder will touch bldg.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distance from base of ladder to base of bldg.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(length of ladder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6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24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6 = 5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≈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3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**The distance from the base of the building to where the ladder will touch the building is 23 feet.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286000" cy="3504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5880" y="5715000"/>
            <a:ext cx="3200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00"/>
                </a:solidFill>
                <a:latin typeface="Arial"/>
              </a:rPr>
              <a:t>© 2002 Riverdeep Interactive Learning Limited, and its licensors.  All rights reserved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3:11:14Z</dcterms:created>
  <dc:creator>Greenville Schools</dc:creator>
  <dc:description/>
  <dc:language>en-US</dc:language>
  <cp:lastModifiedBy>Greenville Schools</cp:lastModifiedBy>
  <dcterms:modified xsi:type="dcterms:W3CDTF">2008-03-04T03:52:05Z</dcterms:modified>
  <cp:revision>42</cp:revision>
  <dc:subject/>
  <dc:title>Slide 1</dc:title>
</cp:coreProperties>
</file>